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36A7-60B1-4194-BAF5-5A6D5C1B7CF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28AC-3BFD-48B4-8D78-1C78E9ABEEB1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E7F5-1D1C-498A-A47C-A19755FAE011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6BD3-D4FC-4959-9875-5F5DFD7C830E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A181-21CC-40BE-A178-9757B11AB227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871D-D5F2-4EF7-B3A6-0C3CFE770DD2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F71C-E87D-4951-8C37-663A9778394D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A35-3007-45E9-BD2A-3F94871A7862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756D-D915-4590-BEFA-437C469DCB4D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0C2C-D00C-4D24-B780-B4267C23AA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98300-DA37-49E1-A845-27A14575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156F3-7D7A-4A24-A311-77C2CB29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B2458-C5EB-426F-AB5F-16423C496D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FE27B-23C8-4887-8209-2AEA6389B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1EDD2-5758-4E15-A9A1-5564A2D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76B784-5BDA-47D0-9F49-59A7C740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F2C28D-5527-4478-8968-5681176F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1E262-B903-4B87-A0A3-266523B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31620-49BF-4EE1-8226-1490ED2B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3A56-F1E8-4FDD-B677-A0CFC69A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72CD8-3F20-4654-A7B8-24E207B3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DFF70-E205-4F93-A0E3-BFE90A3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2CFF55-8472-460A-9485-E133440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F19F0E-3DF3-4B25-9B13-82F6DFF7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DA6503-C65C-4EBD-BDF6-4FDB27199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4C2D-0DA1-4904-8AF7-2D202E79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2896E-1A41-4C13-89DE-464AF1F2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A1BF-2B84-4EA1-ADBA-D00940BD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76C76-0588-4A29-B8E2-4025A568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3A8B1-2574-4C5D-A1A8-8B7D9E14D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5C30-0031-415F-BE85-89D9BB3E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F99C-F4DD-4D38-9554-2489CAEA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F3E95-7F53-4337-AA62-679327C9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51C-45EA-44C5-912D-5297D5B1A48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9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FCE5F-F56C-40DF-84D1-E5148FA4191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jpeg"/><Relationship Id="rId3" Type="http://schemas.openxmlformats.org/officeDocument/2006/relationships/hyperlink" Target="http://alterundtrauma.de/mediathek/hoeren/es-wuehlt-zuerst-auf-aber-hinterher-wirds-ein-bisschen-leichter.html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a.europa.eu/de/publication/2014/gewalt-frauen-erhebung-ergebnisse-auf-einen-blick" TargetMode="External"/><Relationship Id="rId2" Type="http://schemas.openxmlformats.org/officeDocument/2006/relationships/hyperlink" Target="http://www.institut-berlin.d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922F-A831-4C53-873D-04EDF6E42A9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4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7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DE9A-13BE-458A-AC1B-85A94A1494C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tatistik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7160" y="14997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validen Daten zum Ausmaß sexualisierter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olizeiliche Kriminalstatistik (PKS) ist eine Anzeigestatistik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KS bildet lediglich das „Hellfeld“,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so die der Polizei bekann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wordenen Fälle ab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3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4" name="Grafik 11" descr="eisberg.jpg"/>
          <p:cNvPicPr/>
          <p:nvPr/>
        </p:nvPicPr>
        <p:blipFill>
          <a:blip r:embed="rId2"/>
          <a:stretch/>
        </p:blipFill>
        <p:spPr>
          <a:xfrm>
            <a:off x="6095880" y="2895480"/>
            <a:ext cx="2762280" cy="3391200"/>
          </a:xfrm>
          <a:prstGeom prst="rect">
            <a:avLst/>
          </a:prstGeom>
          <a:ln w="0">
            <a:noFill/>
          </a:ln>
        </p:spPr>
      </p:pic>
      <p:sp>
        <p:nvSpPr>
          <p:cNvPr id="155" name="Rechteck 12"/>
          <p:cNvSpPr/>
          <p:nvPr/>
        </p:nvSpPr>
        <p:spPr>
          <a:xfrm>
            <a:off x="6143760" y="628488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ttp://www.dadalos-d.org/frieden/images/eisberg-modell.jpg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5666-334E-4C35-A393-E846EB06883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Hellfeld:</a:t>
            </a:r>
            <a:br>
              <a:rPr sz="3200"/>
            </a:br>
            <a:r>
              <a:rPr b="0" lang="de-DE" sz="2800" spc="-1" strike="noStrike">
                <a:solidFill>
                  <a:srgbClr val="5d5d5d"/>
                </a:solidFill>
                <a:latin typeface="Arial"/>
              </a:rPr>
              <a:t>Kriminalstatistik 2014</a:t>
            </a:r>
            <a:endParaRPr b="0" lang="en-US" sz="2800" spc="-1" strike="noStrike">
              <a:solidFill>
                <a:srgbClr val="5d5d5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8080" y="1874880"/>
          <a:ext cx="6408720" cy="4309920"/>
        </p:xfrm>
        <a:graphic>
          <a:graphicData uri="http://schemas.openxmlformats.org/drawingml/2006/table">
            <a:tbl>
              <a:tblPr/>
              <a:tblGrid>
                <a:gridCol w="1066680"/>
                <a:gridCol w="3206880"/>
                <a:gridCol w="21351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chlüssel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gruppe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Erfasste Fälle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 gegen die sexuelle Selbstbestimmung, darunter: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46.98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0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 gegen die sexuelle Selbstbestimmung unter Gewaltanwendung oder Ausnutzen eines Abhängigkeitsverhältnisses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2.537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1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Vergewaltigung und sexuelle Nötigung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7.345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2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onstige sexuelle Nötigung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4.62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3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exueller Missbrauch von Schutzbefohlenen pp. unter Ausnutzung einer Amtsstellung oder eines Vertrauensverhältnisses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57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31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exueller Missbrauch von Kindern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2.134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433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Besitz/Verschaffung von Kinderpornographie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3.98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Oval 94"/>
          <p:cNvSpPr/>
          <p:nvPr/>
        </p:nvSpPr>
        <p:spPr>
          <a:xfrm>
            <a:off x="5572080" y="2363760"/>
            <a:ext cx="792360" cy="287280"/>
          </a:xfrm>
          <a:prstGeom prst="ellipse">
            <a:avLst/>
          </a:prstGeom>
          <a:noFill/>
          <a:ln w="381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1" name="Oval 95"/>
          <p:cNvSpPr/>
          <p:nvPr/>
        </p:nvSpPr>
        <p:spPr>
          <a:xfrm>
            <a:off x="5565600" y="5240160"/>
            <a:ext cx="792360" cy="287640"/>
          </a:xfrm>
          <a:prstGeom prst="ellipse">
            <a:avLst/>
          </a:prstGeom>
          <a:noFill/>
          <a:ln w="381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2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429D-142C-414D-80E7-7F9AD0F16EF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Dunkelfeld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57160" y="18903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schiedliche Definitionen, unterschiedliche Stichprobenauswahl </a:t>
            </a:r>
            <a:r>
              <a:rPr b="0" lang="de-DE" sz="20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unterschiedliche Ergebniss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unkelfeldschätzungen variieren von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:20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bis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:100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gebnisse der KFN-Opferbefrag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19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19f"/>
                </a:solidFill>
                <a:latin typeface="Arial"/>
              </a:rPr>
              <a:t>6 % der 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Befragten gaben an, bis zum 16. Lebensjahr </a:t>
            </a:r>
            <a:r>
              <a:rPr b="0" lang="de-DE" sz="1800" spc="-1" strike="noStrike">
                <a:solidFill>
                  <a:srgbClr val="00619f"/>
                </a:solidFill>
                <a:latin typeface="Arial"/>
              </a:rPr>
              <a:t>sexuellen Missbrauch 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erlebt zu haben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ssbrauch kommt in allen sozialen Gruppierungen vo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Betroffenen sind Mäd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Täter sind Männe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Übergriffe im häuslichen Umfel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7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8" name="Rechteck 8"/>
          <p:cNvSpPr/>
          <p:nvPr/>
        </p:nvSpPr>
        <p:spPr>
          <a:xfrm>
            <a:off x="4572000" y="3643200"/>
            <a:ext cx="271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ellmann, D. F.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Symbol WC Frau 010 Weiß, 3x6 cm"/>
          <p:cNvPicPr/>
          <p:nvPr/>
        </p:nvPicPr>
        <p:blipFill>
          <a:blip r:embed="rId1"/>
          <a:stretch/>
        </p:blipFill>
        <p:spPr>
          <a:xfrm>
            <a:off x="6286680" y="4786200"/>
            <a:ext cx="42192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sp>
        <p:nvSpPr>
          <p:cNvPr id="17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E83C-7E72-472A-BBDB-56155685C47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1" name="Picture 2" descr="WiWaLogo_4c"/>
          <p:cNvPicPr/>
          <p:nvPr/>
        </p:nvPicPr>
        <p:blipFill>
          <a:blip r:embed="rId2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Frauen und Gewalterfahrun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57160" y="1874880"/>
            <a:ext cx="738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ktuelle Ergebnisse einer europaweiten Studie aus dem Jahr 2014 beleg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dritte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europäische Frau hat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sexualisierte und/oder körperliche Gewalt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leb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2%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aben vor ihrem 15. Lebensjahr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sexuellen Missbrauch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fahr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4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European Union Agency For Fundamental Rights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5" name="Picture 8" descr="Symbol WC Frau 010 Weiß, 3x6 cm"/>
          <p:cNvPicPr/>
          <p:nvPr/>
        </p:nvPicPr>
        <p:blipFill>
          <a:blip r:embed="rId3"/>
          <a:stretch/>
        </p:blipFill>
        <p:spPr>
          <a:xfrm>
            <a:off x="15717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Symbol WC Frau 010 Weiß, 3x6 cm"/>
          <p:cNvPicPr/>
          <p:nvPr/>
        </p:nvPicPr>
        <p:blipFill>
          <a:blip r:embed="rId4"/>
          <a:stretch/>
        </p:blipFill>
        <p:spPr>
          <a:xfrm>
            <a:off x="20001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Symbol WC Frau 010 Weiß, 3x6 cm"/>
          <p:cNvPicPr/>
          <p:nvPr/>
        </p:nvPicPr>
        <p:blipFill>
          <a:blip r:embed="rId5"/>
          <a:stretch/>
        </p:blipFill>
        <p:spPr>
          <a:xfrm>
            <a:off x="242892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78" name="Picture 8" descr="Symbol WC Frau 010 Weiß, 3x6 cm"/>
          <p:cNvPicPr/>
          <p:nvPr/>
        </p:nvPicPr>
        <p:blipFill>
          <a:blip r:embed="rId6"/>
          <a:stretch/>
        </p:blipFill>
        <p:spPr>
          <a:xfrm>
            <a:off x="2857680" y="4786200"/>
            <a:ext cx="421920" cy="9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ymbol WC Frau 010 Weiß, 3x6 cm"/>
          <p:cNvPicPr/>
          <p:nvPr/>
        </p:nvPicPr>
        <p:blipFill>
          <a:blip r:embed="rId7"/>
          <a:stretch/>
        </p:blipFill>
        <p:spPr>
          <a:xfrm>
            <a:off x="328608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Symbol WC Frau 010 Weiß, 3x6 cm"/>
          <p:cNvPicPr/>
          <p:nvPr/>
        </p:nvPicPr>
        <p:blipFill>
          <a:blip r:embed="rId8"/>
          <a:stretch/>
        </p:blipFill>
        <p:spPr>
          <a:xfrm>
            <a:off x="3651120" y="4773600"/>
            <a:ext cx="549360" cy="105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Symbol WC Frau 010 Weiß, 3x6 cm"/>
          <p:cNvPicPr/>
          <p:nvPr/>
        </p:nvPicPr>
        <p:blipFill>
          <a:blip r:embed="rId9"/>
          <a:stretch/>
        </p:blipFill>
        <p:spPr>
          <a:xfrm>
            <a:off x="414324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Symbol WC Frau 010 Weiß, 3x6 cm"/>
          <p:cNvPicPr/>
          <p:nvPr/>
        </p:nvPicPr>
        <p:blipFill>
          <a:blip r:embed="rId10"/>
          <a:stretch/>
        </p:blipFill>
        <p:spPr>
          <a:xfrm>
            <a:off x="457200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Symbol WC Frau 010 Weiß, 3x6 cm"/>
          <p:cNvPicPr/>
          <p:nvPr/>
        </p:nvPicPr>
        <p:blipFill>
          <a:blip r:embed="rId11"/>
          <a:stretch/>
        </p:blipFill>
        <p:spPr>
          <a:xfrm>
            <a:off x="500076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84" name="Picture 8" descr="Symbol WC Frau 010 Weiß, 3x6 cm"/>
          <p:cNvPicPr/>
          <p:nvPr/>
        </p:nvPicPr>
        <p:blipFill>
          <a:blip r:embed="rId12"/>
          <a:stretch/>
        </p:blipFill>
        <p:spPr>
          <a:xfrm>
            <a:off x="54291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Symbol WC Frau 010 Weiß, 3x6 cm"/>
          <p:cNvPicPr/>
          <p:nvPr/>
        </p:nvPicPr>
        <p:blipFill>
          <a:blip r:embed="rId13"/>
          <a:stretch/>
        </p:blipFill>
        <p:spPr>
          <a:xfrm>
            <a:off x="585792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Symbol WC Frau 010 Weiß, 3x6 cm"/>
          <p:cNvPicPr/>
          <p:nvPr/>
        </p:nvPicPr>
        <p:blipFill>
          <a:blip r:embed="rId14"/>
          <a:stretch/>
        </p:blipFill>
        <p:spPr>
          <a:xfrm>
            <a:off x="671508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ymbol WC Frau 010 Weiß, 3x6 cm"/>
          <p:cNvPicPr/>
          <p:nvPr/>
        </p:nvPicPr>
        <p:blipFill>
          <a:blip r:embed="rId15"/>
          <a:stretch/>
        </p:blipFill>
        <p:spPr>
          <a:xfrm>
            <a:off x="757224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88" name="Picture 8" descr="Symbol WC Frau 010 Weiß, 3x6 cm"/>
          <p:cNvPicPr/>
          <p:nvPr/>
        </p:nvPicPr>
        <p:blipFill>
          <a:blip r:embed="rId16"/>
          <a:stretch/>
        </p:blipFill>
        <p:spPr>
          <a:xfrm>
            <a:off x="714384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Symbol WC Frau 010 Weiß, 3x6 cm"/>
          <p:cNvPicPr/>
          <p:nvPr/>
        </p:nvPicPr>
        <p:blipFill>
          <a:blip r:embed="rId17"/>
          <a:stretch/>
        </p:blipFill>
        <p:spPr>
          <a:xfrm>
            <a:off x="114300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sp>
        <p:nvSpPr>
          <p:cNvPr id="190" name="Textfeld 24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0D58-EEF9-4641-8830-D8639214C1C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Kriegsgewalt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94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5" name="Picture 8" descr="Zweiter Weltkrieg, dpa"/>
          <p:cNvPicPr/>
          <p:nvPr/>
        </p:nvPicPr>
        <p:blipFill>
          <a:blip r:embed="rId2"/>
          <a:stretch/>
        </p:blipFill>
        <p:spPr>
          <a:xfrm>
            <a:off x="365040" y="2000160"/>
            <a:ext cx="3492720" cy="314352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10"/>
          <p:cNvSpPr/>
          <p:nvPr/>
        </p:nvSpPr>
        <p:spPr>
          <a:xfrm>
            <a:off x="285840" y="5143680"/>
            <a:ext cx="23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sueddeutsche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7" name="Rechteck 12"/>
          <p:cNvSpPr/>
          <p:nvPr/>
        </p:nvSpPr>
        <p:spPr>
          <a:xfrm>
            <a:off x="4000680" y="1928880"/>
            <a:ext cx="4572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Mind. 860.000 Frauen wurden zu Kriegsende und in der Nachkriegszeit (zwischen 1944  und 1955) von alliierten Soldaten in ganz Deutschland vergewaltig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Mind. 190.000 davon durch amerikanische Armeeangehörige, andere durch sowjetische, britische, belgische oder französische Soldat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In allen Ländern in denen deutsche Soldaten stationiert waren, kam es zu Vergewaltigung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Zwangsprostitution und Verschleppung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Viele heute alte Frauen wurden selbst Opfer sexualisierter Gewalt oder mussten diese bei anderen Frauen und Mädchen beobacht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8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Gebhardt, M. (2015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5211-421A-44FE-A3E6-C4257038AD5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0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Flucht und Vertreib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pic>
        <p:nvPicPr>
          <p:cNvPr id="202" name="Picture 4" descr="http://www.ndr.de/geschichte/chronologie/nszeitundkrieg/fluechtendefrauen100_v-contentgross.jpg"/>
          <p:cNvPicPr/>
          <p:nvPr/>
        </p:nvPicPr>
        <p:blipFill>
          <a:blip r:embed="rId2"/>
          <a:stretch/>
        </p:blipFill>
        <p:spPr>
          <a:xfrm>
            <a:off x="2328840" y="1560600"/>
            <a:ext cx="4503600" cy="2536560"/>
          </a:xfrm>
          <a:prstGeom prst="rect">
            <a:avLst/>
          </a:prstGeom>
          <a:ln w="0">
            <a:noFill/>
          </a:ln>
        </p:spPr>
      </p:pic>
      <p:sp>
        <p:nvSpPr>
          <p:cNvPr id="203" name="Rechteck 3"/>
          <p:cNvSpPr/>
          <p:nvPr/>
        </p:nvSpPr>
        <p:spPr>
          <a:xfrm>
            <a:off x="2176560" y="4255920"/>
            <a:ext cx="48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picture-alliance / akg Fotograf: / RIA Nowosti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4" name="Textfeld 6"/>
          <p:cNvSpPr/>
          <p:nvPr/>
        </p:nvSpPr>
        <p:spPr>
          <a:xfrm>
            <a:off x="1571760" y="4570560"/>
            <a:ext cx="61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12 bis 14 Millionen Menschen mussten im Kontext des Zweiten Weltkriegs ihre Heimat verlass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roßteil waren Frauen und Kinder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Mädchen und Frauen waren Vergewaltigungen schutzlos ausgeliefer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BE75-9886-48C0-BA9D-34C3B03F37C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0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448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ist ein Trauma und was passiert in einer traumatischen Situatio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9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5733-14F9-49C8-8497-344C1A95C1B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1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elisches Trauma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71560" y="1891800"/>
            <a:ext cx="77724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19f"/>
                </a:solidFill>
                <a:latin typeface="Arial"/>
              </a:rPr>
              <a:t>Extremsituation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ür die es keine angemessene Vorbereitung gib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Arial"/>
              </a:rPr>
              <a:t>die alle zur Verfügung stehenden Bewältigungsmechanismen überforder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weder Flucht noch Gegenwehr zulässt bzw. ermöglich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mit Gefühlen der Ohnmacht, Todesangst und des Ausgeliefertseins einhergeh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eine nicht-integrierbare Erfahrung und eine existenzielle Bedrohung darstel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5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uber, M. 2009, Herman, J. 2006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7632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che Erfahrun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1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FDF7-2414-4C20-8132-963D5704D889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18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1" name="Picture 2" descr="https://encrypted-tbn1.gstatic.com/images?q=tbn:ANd9GcS7ARKMacaLawH9fBahWTryXrBqiLi1TNeMqkvO3xuVRizO9XuN"/>
          <p:cNvPicPr/>
          <p:nvPr/>
        </p:nvPicPr>
        <p:blipFill>
          <a:blip r:embed="rId2"/>
          <a:stretch/>
        </p:blipFill>
        <p:spPr>
          <a:xfrm>
            <a:off x="571680" y="1857240"/>
            <a:ext cx="323820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Textfeld 18"/>
          <p:cNvSpPr/>
          <p:nvPr/>
        </p:nvSpPr>
        <p:spPr>
          <a:xfrm>
            <a:off x="500040" y="3284640"/>
            <a:ext cx="200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rundschau-online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3" name="Picture 6" descr="Die Trauer-Danksagung am PC erstellen"/>
          <p:cNvPicPr/>
          <p:nvPr/>
        </p:nvPicPr>
        <p:blipFill>
          <a:blip r:embed="rId3"/>
          <a:stretch/>
        </p:blipFill>
        <p:spPr>
          <a:xfrm>
            <a:off x="6786720" y="1857240"/>
            <a:ext cx="1857240" cy="1231920"/>
          </a:xfrm>
          <a:prstGeom prst="rect">
            <a:avLst/>
          </a:prstGeom>
          <a:ln w="0">
            <a:noFill/>
          </a:ln>
        </p:spPr>
      </p:pic>
      <p:sp>
        <p:nvSpPr>
          <p:cNvPr id="224" name="Textfeld 23"/>
          <p:cNvSpPr/>
          <p:nvPr/>
        </p:nvSpPr>
        <p:spPr>
          <a:xfrm>
            <a:off x="6715080" y="307188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thgweb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5" name="Picture 13" descr="C:\Users\Wilwasser\AppData\Local\Microsoft\Windows\Temporary Internet Files\Content.IE5\89GCAT46\Modern-Doctor-1362384904_18[1].jpg"/>
          <p:cNvPicPr/>
          <p:nvPr/>
        </p:nvPicPr>
        <p:blipFill>
          <a:blip r:embed="rId4"/>
          <a:stretch/>
        </p:blipFill>
        <p:spPr>
          <a:xfrm>
            <a:off x="1357200" y="414324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C:\Users\Wilwasser\AppData\Local\Microsoft\Windows\Temporary Internet Files\Content.IE5\LOE784WY\5355109420_7eea0d9d19_z[1].jpg"/>
          <p:cNvPicPr/>
          <p:nvPr/>
        </p:nvPicPr>
        <p:blipFill>
          <a:blip r:embed="rId5"/>
          <a:stretch/>
        </p:blipFill>
        <p:spPr>
          <a:xfrm>
            <a:off x="4214880" y="1857240"/>
            <a:ext cx="1950840" cy="130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" descr="C:\Users\Wilwasser\AppData\Local\Microsoft\Windows\Temporary Internet Files\Content.IE5\AE9N53VP\German-armed-forces-Bundeswehr[1].JPG"/>
          <p:cNvPicPr/>
          <p:nvPr/>
        </p:nvPicPr>
        <p:blipFill>
          <a:blip r:embed="rId6"/>
          <a:stretch/>
        </p:blipFill>
        <p:spPr>
          <a:xfrm>
            <a:off x="5286240" y="4143240"/>
            <a:ext cx="2428920" cy="1587600"/>
          </a:xfrm>
          <a:prstGeom prst="rect">
            <a:avLst/>
          </a:prstGeom>
          <a:ln w="0">
            <a:noFill/>
          </a:ln>
        </p:spPr>
      </p:pic>
      <p:sp>
        <p:nvSpPr>
          <p:cNvPr id="228" name="Textfeld 15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83B1C-0DEA-4450-99E1-620432CF3BD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3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elisches Trauma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50040" y="2532600"/>
            <a:ext cx="198540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36db5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drohlicher Situatio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716360" y="2637000"/>
            <a:ext cx="33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581800" y="2349360"/>
            <a:ext cx="2806560" cy="125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dividuellen Bewältigungs-möglichkei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98764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Diskrepanzerlebnis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3564000" y="2924280"/>
            <a:ext cx="1727280" cy="214200"/>
          </a:xfrm>
          <a:prstGeom prst="leftRightArrow">
            <a:avLst>
              <a:gd name="adj1" fmla="val 50000"/>
              <a:gd name="adj2" fmla="val 104308"/>
            </a:avLst>
          </a:prstGeom>
          <a:solidFill>
            <a:srgbClr val="006c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370836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zwis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411280" y="38606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Begleitet von Gefühlen der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24000" y="5300640"/>
            <a:ext cx="151128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36db5"/>
                </a:solidFill>
                <a:latin typeface="Arial"/>
              </a:rPr>
              <a:t>Hilf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627280" y="5300640"/>
            <a:ext cx="151128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19f"/>
                </a:solidFill>
                <a:latin typeface="Arial"/>
                <a:ea typeface="Arial"/>
              </a:rPr>
              <a:t>Ohnmach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0" y="5300640"/>
            <a:ext cx="17985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36db5"/>
                </a:solidFill>
                <a:latin typeface="Arial"/>
              </a:rPr>
              <a:t>Schutz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659640" y="5300640"/>
            <a:ext cx="2089080" cy="105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Erschütterung de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Selbst- und Welt-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verständnisse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 flipH="1">
            <a:off x="1618920" y="4438800"/>
            <a:ext cx="1081080" cy="50292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4" name="Line 30"/>
          <p:cNvSpPr/>
          <p:nvPr/>
        </p:nvSpPr>
        <p:spPr>
          <a:xfrm flipH="1">
            <a:off x="3347640" y="4437000"/>
            <a:ext cx="28908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5" name="Line 31"/>
          <p:cNvSpPr/>
          <p:nvPr/>
        </p:nvSpPr>
        <p:spPr>
          <a:xfrm>
            <a:off x="5076720" y="4437000"/>
            <a:ext cx="14292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6300720" y="4437000"/>
            <a:ext cx="79236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7" name="Textfeld 21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3847-95EF-4F5E-94BC-D8DF3154144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9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433440" y="1581120"/>
            <a:ext cx="82818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Einführung in das Thema: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„</a:t>
            </a: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Sexualisierte Gewalt und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Traumatisierung“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2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ED26-FCDD-49F0-9284-8EFB5D92CA8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4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 und Traumatisi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00280" y="220464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onotraumatisierung: Ein einmaliges traumatisches Ereigni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omplextraumatisierung: Lang anhaltende wiederholte Traumat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x. Gewalt in der Kindheit und im häuslichen Bereich sind vo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lem Komplextraumatisie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kennzeichnet durch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rukturelle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derholungen nicht integrierbarer Erfah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npassung an Gewaltstruktur und -kontex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sprägung von Bewältigungsstrategi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2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CC3E-79CC-4148-BDA9-C9B6BD26FA8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5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 und Hirnforsch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pic>
        <p:nvPicPr>
          <p:cNvPr id="256" name="Picture 5" descr="HBKKVAa8_Pxgen_r_1100xA"/>
          <p:cNvPicPr/>
          <p:nvPr/>
        </p:nvPicPr>
        <p:blipFill>
          <a:blip r:embed="rId2"/>
          <a:stretch/>
        </p:blipFill>
        <p:spPr>
          <a:xfrm>
            <a:off x="1203480" y="1981080"/>
            <a:ext cx="6797520" cy="4249800"/>
          </a:xfrm>
          <a:prstGeom prst="rect">
            <a:avLst/>
          </a:prstGeom>
          <a:ln w="0">
            <a:noFill/>
          </a:ln>
        </p:spPr>
      </p:pic>
      <p:sp>
        <p:nvSpPr>
          <p:cNvPr id="257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DA8F-4B81-4385-B5D8-8314535075C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5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ie nehmen wir Informationen auf und verarbeiten sie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tegration von Informatio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1433520" y="2711520"/>
            <a:ext cx="6264360" cy="914400"/>
          </a:xfrm>
          <a:prstGeom prst="pie">
            <a:avLst/>
          </a:prstGeom>
          <a:solidFill>
            <a:srgbClr val="00619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11280" y="2765520"/>
            <a:ext cx="396720" cy="1218960"/>
          </a:xfrm>
          <a:custGeom>
            <a:avLst/>
            <a:gdLst>
              <a:gd name="textAreaLeft" fmla="*/ 52920 w 396720"/>
              <a:gd name="textAreaRight" fmla="*/ 343800 w 396720"/>
              <a:gd name="textAreaTop" fmla="*/ 245520 h 1218960"/>
              <a:gd name="textAreaBottom" fmla="*/ 8946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1" stAng="-5400000" swAng="-5400000"/>
                <a:lnTo>
                  <a:pt x="0" y="11496"/>
                </a:lnTo>
                <a:arcTo wR="21600" hR="8711" stAng="10800000" swAng="-2925578"/>
                <a:lnTo>
                  <a:pt x="14400" y="21102"/>
                </a:lnTo>
                <a:lnTo>
                  <a:pt x="21600" y="18815"/>
                </a:lnTo>
                <a:lnTo>
                  <a:pt x="14400" y="15531"/>
                </a:lnTo>
                <a:lnTo>
                  <a:pt x="14400" y="16924"/>
                </a:lnTo>
                <a:arcTo wR="21600" hR="8711" stAng="7874422" swAng="2701386"/>
                <a:lnTo>
                  <a:pt x="278" y="10103"/>
                </a:lnTo>
                <a:arcTo wR="21600" hR="8711" stAng="-10575808" swAng="5175808"/>
                <a:close/>
              </a:path>
              <a:path fill="darkenLess" w="21600" h="21600">
                <a:moveTo>
                  <a:pt x="21600" y="0"/>
                </a:moveTo>
                <a:arcTo wR="21600" hR="8711" stAng="-5400000" swAng="-5400000"/>
                <a:lnTo>
                  <a:pt x="0" y="8711"/>
                </a:lnTo>
                <a:arcTo wR="21600" hR="8711" stAng="10800000" swAng="-224192"/>
                <a:lnTo>
                  <a:pt x="278" y="10103"/>
                </a:lnTo>
                <a:arcTo wR="21600" hR="8711" stAng="-10575808" swAng="5175808"/>
                <a:close/>
              </a:path>
            </a:pathLst>
          </a:cu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64" name="Picture 7" descr="alarmanlage"/>
          <p:cNvPicPr/>
          <p:nvPr/>
        </p:nvPicPr>
        <p:blipFill>
          <a:blip r:embed="rId2"/>
          <a:stretch/>
        </p:blipFill>
        <p:spPr>
          <a:xfrm>
            <a:off x="1263600" y="3429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1069200" y="4513320"/>
            <a:ext cx="1241280" cy="5202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Amygdala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„</a:t>
            </a: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Alarmanlage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2916360" y="379728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flipH="1">
            <a:off x="4132440" y="3500280"/>
            <a:ext cx="863280" cy="720720"/>
          </a:xfrm>
          <a:prstGeom prst="hexagon">
            <a:avLst>
              <a:gd name="adj" fmla="val 29945"/>
              <a:gd name="vf" fmla="val 115470"/>
            </a:avLst>
          </a:prstGeom>
          <a:solidFill>
            <a:srgbClr val="00619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68" name="Picture 11" descr="library"/>
          <p:cNvPicPr/>
          <p:nvPr/>
        </p:nvPicPr>
        <p:blipFill>
          <a:blip r:embed="rId3"/>
          <a:stretch/>
        </p:blipFill>
        <p:spPr>
          <a:xfrm>
            <a:off x="3956040" y="4292640"/>
            <a:ext cx="1224000" cy="7556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3952440" y="5234040"/>
            <a:ext cx="1229400" cy="73332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Hippocampus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„</a:t>
            </a: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Bibliothek“, 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Raum und Z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>
            <a:off x="5854680" y="3716280"/>
            <a:ext cx="719280" cy="125640"/>
          </a:xfrm>
          <a:prstGeom prst="leftArrow">
            <a:avLst>
              <a:gd name="adj1" fmla="val 50000"/>
              <a:gd name="adj2" fmla="val 143123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>
            <a:off x="5872320" y="391464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2" name="Picture 15" descr="magnet-kopf-rot-rot-werbeartikel"/>
          <p:cNvPicPr/>
          <p:nvPr/>
        </p:nvPicPr>
        <p:blipFill>
          <a:blip r:embed="rId4"/>
          <a:stretch/>
        </p:blipFill>
        <p:spPr>
          <a:xfrm>
            <a:off x="6907320" y="3367080"/>
            <a:ext cx="1090440" cy="1090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6446880" y="4707000"/>
            <a:ext cx="2016000" cy="89568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Calibri"/>
              </a:rPr>
              <a:t>Neokortex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Calibri"/>
              </a:rPr>
              <a:t>Reflexion, Ich-Erleben,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Versprachlichung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4" name="Textfeld 20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5" name="Verarbeitung von Informationen.m4a" descr=""/>
          <p:cNvPicPr/>
          <p:nvPr/>
        </p:nvPicPr>
        <p:blipFill>
          <a:blip r:embed="rId5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2E83-3735-4305-A460-C06F7379B38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elungene Informationsverarbeit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042920" y="3860640"/>
            <a:ext cx="216000" cy="7923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332000" y="4270320"/>
            <a:ext cx="215640" cy="3891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258920" y="4437000"/>
            <a:ext cx="71280" cy="2174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031760" y="4724280"/>
            <a:ext cx="7705800" cy="0"/>
          </a:xfrm>
          <a:prstGeom prst="line">
            <a:avLst/>
          </a:prstGeom>
          <a:ln w="7632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5219640" y="4199040"/>
            <a:ext cx="504720" cy="473040"/>
          </a:xfrm>
          <a:prstGeom prst="rect">
            <a:avLst/>
          </a:prstGeom>
          <a:solidFill>
            <a:srgbClr val="006cb0"/>
          </a:solidFill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8089920" y="49244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Zukunf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468360" y="49514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Vergangenh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4683240" y="49118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Gegenwar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539640" y="5384880"/>
            <a:ext cx="129708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lebnisse, die verarbeitet sind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89" name="Picture 2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2">
            <a:grayscl/>
          </a:blip>
          <a:stretch/>
        </p:blipFill>
        <p:spPr>
          <a:xfrm>
            <a:off x="5256360" y="356724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290" name="Textfeld 33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1" name="Gelungene Informationsverarbeitung.m4a" descr=""/>
          <p:cNvPicPr/>
          <p:nvPr/>
        </p:nvPicPr>
        <p:blipFill>
          <a:blip r:embed="rId3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3EB1-D8B9-43CD-97C6-EEBE098090A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i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436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tegration von Informatio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692360" y="2428920"/>
            <a:ext cx="6264360" cy="914400"/>
          </a:xfrm>
          <a:prstGeom prst="pie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684360" y="3357720"/>
            <a:ext cx="323640" cy="641160"/>
          </a:xfrm>
          <a:custGeom>
            <a:avLst/>
            <a:gdLst>
              <a:gd name="textAreaLeft" fmla="*/ 43200 w 323640"/>
              <a:gd name="textAreaRight" fmla="*/ 280440 w 323640"/>
              <a:gd name="textAreaTop" fmla="*/ 111960 h 641160"/>
              <a:gd name="textAreaBottom" fmla="*/ 464760 h 64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9" name="Picture 7" descr="alarmanlage"/>
          <p:cNvPicPr/>
          <p:nvPr/>
        </p:nvPicPr>
        <p:blipFill>
          <a:blip r:embed="rId2"/>
          <a:stretch/>
        </p:blipFill>
        <p:spPr>
          <a:xfrm>
            <a:off x="1258920" y="30718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1046520" y="4000680"/>
            <a:ext cx="1299240" cy="5202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Amygdala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Alarmanlage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2916360" y="364320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2" name="Picture 11" descr="library"/>
          <p:cNvPicPr/>
          <p:nvPr/>
        </p:nvPicPr>
        <p:blipFill>
          <a:blip r:embed="rId3"/>
          <a:stretch/>
        </p:blipFill>
        <p:spPr>
          <a:xfrm>
            <a:off x="4067280" y="4286160"/>
            <a:ext cx="1224000" cy="7556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3780000" y="5214960"/>
            <a:ext cx="2412720" cy="4590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Hippocampus:„Bibliothek“, 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Raum und Zeit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6084720" y="3714840"/>
            <a:ext cx="719280" cy="125280"/>
          </a:xfrm>
          <a:prstGeom prst="leftArrow">
            <a:avLst>
              <a:gd name="adj1" fmla="val 50000"/>
              <a:gd name="adj2" fmla="val 143534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6084720" y="3857760"/>
            <a:ext cx="719280" cy="142920"/>
          </a:xfrm>
          <a:prstGeom prst="rightArrow">
            <a:avLst>
              <a:gd name="adj1" fmla="val 50000"/>
              <a:gd name="adj2" fmla="val 125819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6" name="Picture 15" descr="magnet-kopf-rot-rot-werbeartikel"/>
          <p:cNvPicPr/>
          <p:nvPr/>
        </p:nvPicPr>
        <p:blipFill>
          <a:blip r:embed="rId4"/>
          <a:stretch/>
        </p:blipFill>
        <p:spPr>
          <a:xfrm>
            <a:off x="7451640" y="3429000"/>
            <a:ext cx="1090800" cy="10904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6"/>
          <p:cNvSpPr/>
          <p:nvPr/>
        </p:nvSpPr>
        <p:spPr>
          <a:xfrm>
            <a:off x="6443640" y="5214960"/>
            <a:ext cx="2521080" cy="61272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Neokortex: Reflexion,Ich-Erleben,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Versprachlich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8" name="Picture 19" descr="Blitz"/>
          <p:cNvPicPr/>
          <p:nvPr/>
        </p:nvPicPr>
        <p:blipFill>
          <a:blip r:embed="rId5"/>
          <a:stretch/>
        </p:blipFill>
        <p:spPr>
          <a:xfrm rot="17593800">
            <a:off x="740520" y="2474280"/>
            <a:ext cx="255600" cy="94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9" name="AutoShape 20"/>
          <p:cNvSpPr/>
          <p:nvPr/>
        </p:nvSpPr>
        <p:spPr>
          <a:xfrm>
            <a:off x="1619280" y="4570560"/>
            <a:ext cx="71280" cy="358560"/>
          </a:xfrm>
          <a:prstGeom prst="downArrow">
            <a:avLst>
              <a:gd name="adj1" fmla="val 50000"/>
              <a:gd name="adj2" fmla="val 125758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0" name="Oval 21"/>
          <p:cNvSpPr/>
          <p:nvPr/>
        </p:nvSpPr>
        <p:spPr>
          <a:xfrm>
            <a:off x="395280" y="4929120"/>
            <a:ext cx="2448000" cy="1225440"/>
          </a:xfrm>
          <a:prstGeom prst="ellipse">
            <a:avLst/>
          </a:prstGeom>
          <a:noFill/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54200" y="507204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Notfall-/ Stressreaktion: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Kampf oder Flucht sind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folglos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Totstellreflex / Starr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4140360" y="3571560"/>
            <a:ext cx="1223640" cy="721080"/>
            <a:chOff x="4140360" y="3571560"/>
            <a:chExt cx="1223640" cy="721080"/>
          </a:xfrm>
        </p:grpSpPr>
        <p:sp>
          <p:nvSpPr>
            <p:cNvPr id="313" name="AutoShape 24"/>
            <p:cNvSpPr/>
            <p:nvPr/>
          </p:nvSpPr>
          <p:spPr>
            <a:xfrm flipH="1">
              <a:off x="4336200" y="3571920"/>
              <a:ext cx="862920" cy="720720"/>
            </a:xfrm>
            <a:prstGeom prst="hexagon">
              <a:avLst>
                <a:gd name="adj" fmla="val 29933"/>
                <a:gd name="vf" fmla="val 115470"/>
              </a:avLst>
            </a:prstGeom>
            <a:solidFill>
              <a:srgbClr val="f0eff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65656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 flipV="1">
              <a:off x="4140360" y="3571560"/>
              <a:ext cx="1223640" cy="71892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65656"/>
                </a:solidFill>
                <a:latin typeface="Arial"/>
              </a:endParaRPr>
            </a:p>
          </p:txBody>
        </p:sp>
      </p:grpSp>
      <p:sp>
        <p:nvSpPr>
          <p:cNvPr id="315" name="Text Box 26"/>
          <p:cNvSpPr/>
          <p:nvPr/>
        </p:nvSpPr>
        <p:spPr>
          <a:xfrm>
            <a:off x="3851280" y="3000240"/>
            <a:ext cx="2305080" cy="6494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Lücken im Erleben, Denken,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Fühlen, Wahrnehmen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6" name="Textfeld 2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17" name="Traumatisierung.m4a" descr=""/>
          <p:cNvPicPr/>
          <p:nvPr/>
        </p:nvPicPr>
        <p:blipFill>
          <a:blip r:embed="rId6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3C17-A0EC-48B3-B5E6-D186303D201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2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ierung und Dissoziatio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483920"/>
            <a:ext cx="4030560" cy="151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= Eingefrorene Aspekte, Ereignisse aus der Vergangenheit, die nicht verarbeitet, integriert sind und keinen „Platz gefunden“ haben; nicht kontrollierbar, keine Abstraktions- und Metaebene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1312920" y="1746360"/>
            <a:ext cx="28728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42920" y="3860640"/>
            <a:ext cx="216000" cy="7923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332000" y="4270320"/>
            <a:ext cx="215640" cy="3891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258920" y="4437000"/>
            <a:ext cx="71280" cy="2174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1031760" y="4724280"/>
            <a:ext cx="7705800" cy="0"/>
          </a:xfrm>
          <a:prstGeom prst="line">
            <a:avLst/>
          </a:prstGeom>
          <a:ln w="7632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784520" y="318924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195640" y="3075120"/>
            <a:ext cx="14436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2233440" y="3424320"/>
            <a:ext cx="21600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2008080" y="3525840"/>
            <a:ext cx="7164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1547640" y="2997360"/>
            <a:ext cx="100836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 flipV="1">
            <a:off x="1547640" y="2997000"/>
            <a:ext cx="0" cy="71892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556000" y="2997360"/>
            <a:ext cx="0" cy="244764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 flipH="1">
            <a:off x="1547280" y="3716280"/>
            <a:ext cx="100836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2556000" y="5445000"/>
            <a:ext cx="324000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 flipV="1">
            <a:off x="5796000" y="3429000"/>
            <a:ext cx="0" cy="201600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5691240" y="3224160"/>
            <a:ext cx="216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5796000" y="249228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987640" y="3471840"/>
            <a:ext cx="2016000" cy="105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Keine Differenzierung von Damals-Heute möglich 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Es ist Jetzt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199040"/>
            <a:ext cx="504720" cy="473040"/>
          </a:xfrm>
          <a:prstGeom prst="rect">
            <a:avLst/>
          </a:prstGeom>
          <a:solidFill>
            <a:srgbClr val="006cb0"/>
          </a:solidFill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8089920" y="49244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Zukunf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468360" y="49514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Vergangenh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683240" y="49118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Gegenwar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39640" y="5384880"/>
            <a:ext cx="129708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lebnisse, die verarbeitet sind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46" name="Picture 2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2">
            <a:grayscl/>
          </a:blip>
          <a:stretch/>
        </p:blipFill>
        <p:spPr>
          <a:xfrm>
            <a:off x="5256360" y="356400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0"/>
          <p:cNvSpPr/>
          <p:nvPr/>
        </p:nvSpPr>
        <p:spPr>
          <a:xfrm>
            <a:off x="6361200" y="2997360"/>
            <a:ext cx="2590560" cy="127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Hinweisreiz „stülpt“ sich über die eigene Existenz, Körper reagiert wie beim traumatischen Ereignis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Intrusionen = Erinnerung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8" name="Textfeld 33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49" name="Folgen von Dissoziation.m4a" descr=""/>
          <p:cNvPicPr/>
          <p:nvPr/>
        </p:nvPicPr>
        <p:blipFill>
          <a:blip r:embed="rId3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51" name="Gerade Verbindung 34"/>
          <p:cNvSpPr/>
          <p:nvPr/>
        </p:nvSpPr>
        <p:spPr>
          <a:xfrm flipH="1">
            <a:off x="7429320" y="4000680"/>
            <a:ext cx="214200" cy="214200"/>
          </a:xfrm>
          <a:prstGeom prst="line">
            <a:avLst/>
          </a:prstGeom>
          <a:ln w="19080">
            <a:solidFill>
              <a:srgbClr val="006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2FD15-A6BC-49C5-9155-7CE8A53C770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5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Überreg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F76B-DD0F-4D9F-B52B-ABAD8ADEA22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5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Dissoziatio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57160" y="18205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utz vor Überflutung von nicht zu verarbeitenden Informatio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Normale“ Reaktion auf ein „unnormales“ Ereigni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leben kann nicht mit sonstigen Erfahrungen und dem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empfinden verknüpft wer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usammenhangs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arbeitung außerhalb des Bewusstsein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Speicherung im episodischen Gedächtnis, sondern i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em isolierten, unverbundenen Speiche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antke, L. (2006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327C9-996A-483F-89A7-12B09DC2FB9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6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4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können Folgen von Erfahrungen sexualisierter Gewalt sei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65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CFF5-B7E5-4861-9EDE-28828A85A50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6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68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Folgen sexualisierte Gewalt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15E2-0F60-4CD4-A797-2E8E13756AA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7714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85880" y="1989000"/>
            <a:ext cx="757224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ist sexualisierte Gewalt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 häufig kommt sexualisierte Gewalt vor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ist ein Trauma und was passiert in einer traumatischen Situation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können Folgen von Erfahrungen sexualisierter Gewalt sein?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sind traumaspezifische Diagnosen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7" name="Picture 4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18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94C3-1EE4-4AC6-A8A4-FD8D6500DF4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7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Mögliche Langzeitfol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00280" y="18921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on Gewalt betroffene Frauen berichteten im Rahmen einer aktuellen Studie von zahlreichen unterschiedlichen Folgen des Traumas: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über 50% der Frauen berichteten über einen Verlust des Selbstvertrauens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40% schilderten Angstzustände, Beziehungsschwierigkeiten oder Schlafstörunge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35% der Befragten berichten von Depressionen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Weitere mögliche Folgen können z.B. Somatisierungen, Sexuelle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Störungen, Störungen interpersonaler Beziehungen oder auch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substanzgebundenes Suchtverhalten sei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5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European Union Agency For Fundamental Rights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9F71-C551-4934-8598-E8E4DD742E2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7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Auswirkungen auf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57160" y="1820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hrnehm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ziehungsgestaltung / Intimitä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sbildung von Schutzfaktoren und Ressourcen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xualität (z.B. Kopplung an Gewalt oder Kontrollverlust)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bhängigkeit / Autonomi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ert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vertrauen / Selbstwirksamkeitserwart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wertgefühl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icherheitsempfin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trau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72ED-6962-4DBD-BDBE-02F52D03A3C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8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71560" y="18568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rkt sich auf Gesundheit, Gesundheitshandel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d Gesundheitschancen au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at kurz-, mittel- oder langfristige Fol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icht von körperlichen Verletzungen, (psycho-)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omatischen Beschwerden, psychischen Stö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d Krankheiten bis hin zu tödlichen Verletzungen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st somit ein wichtiges Them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m Gesundheitswesen!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47640" y="4714920"/>
            <a:ext cx="865440" cy="360360"/>
          </a:xfrm>
          <a:prstGeom prst="rightArrow">
            <a:avLst>
              <a:gd name="adj1" fmla="val 50000"/>
              <a:gd name="adj2" fmla="val 60040"/>
            </a:avLst>
          </a:prstGeom>
          <a:solidFill>
            <a:srgbClr val="004977"/>
          </a:solidFill>
          <a:ln w="93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6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7D5-4D83-4E4F-A1FC-7F70BC1B8C4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8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Relevanz für das Gesundheitswes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7160" y="18568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rofessionellen des Gesundheitswesens kommt ein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lüsselrolle bei der Prävention und Intervention zu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ttel- und langfristige Folgen von sex. Gewalt hängen auch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avon ab, ob eine ursachenadäquate Behandlung erfolgt un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e evtl. Gewaltproblematik „mitgedacht“ wir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fahr der Unter-, Fehl- und Überversorgung und eine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Chronifizierung der Beschwerden durch primä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ymptomorientierte Behandlung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91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C7EE-A6B6-4646-A2BE-D370688D7F7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9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sind traumaspezifische Diagnose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5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9AEB-CD13-431F-AF71-D3FB0B169A7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9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Posttraumatische Belastungsstö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84464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1143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zige Diagnose, die eine Ursachenzuschreibung enthä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11430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11430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linische Merkmale sind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dererleben des Trauma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starren der Reaktionsfäh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bkapselung von der äußeren We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fühl von Schul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meiden der an das Trauma erinnernde Situatio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0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F7B9-6FAA-4927-9764-9B8BC7F1D04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0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Erleben bei komplexer posttraumatischer Belastungsstö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71560" y="231300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von Gefühlszuständen und Impuls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ssoziative Stö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der Selbstwahrnehm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uld, Scham, unzureichende Selbstfürsorg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in der Beziehung zu ander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omatis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änderung von Lebenseinstell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05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5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68C6-DBE4-48AA-A199-D74FA4BADC4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0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http://3.bp.blogspot.com/-LzaQaH0hEjc/UFMRTT2cswI/AAAAAAAAAfg/Plxu1INnLMo/s400/Radio.jpg"/>
          <p:cNvPicPr/>
          <p:nvPr/>
        </p:nvPicPr>
        <p:blipFill>
          <a:blip r:embed="rId2"/>
          <a:stretch/>
        </p:blipFill>
        <p:spPr>
          <a:xfrm>
            <a:off x="2652840" y="2000160"/>
            <a:ext cx="3809880" cy="2524320"/>
          </a:xfrm>
          <a:prstGeom prst="rect">
            <a:avLst/>
          </a:prstGeom>
          <a:ln w="0">
            <a:noFill/>
          </a:ln>
        </p:spPr>
      </p:pic>
      <p:sp>
        <p:nvSpPr>
          <p:cNvPr id="409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0" name="Textfeld 7"/>
          <p:cNvSpPr/>
          <p:nvPr/>
        </p:nvSpPr>
        <p:spPr>
          <a:xfrm>
            <a:off x="1428840" y="92880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s wühlt zuerst auf, aber hinterher wird’s ein bisschen leichter.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1" name="Textfeld 8"/>
          <p:cNvSpPr/>
          <p:nvPr/>
        </p:nvSpPr>
        <p:spPr>
          <a:xfrm>
            <a:off x="1357200" y="54291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565555"/>
                </a:solidFill>
                <a:uFillTx/>
                <a:latin typeface="Arial"/>
                <a:hlinkClick r:id="rId3"/>
              </a:rPr>
              <a:t>www.alterundtrauma.de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685800" y="185724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Amann, G./Wipplinger, R. (Hg.) (2005): Sexueller Missbrauch: Ein Überblick zu Forschung, Beratung und Therapie. Ein Handbuch. 3. Aufl. DGVT Deutsche Gesellschaft f. Verhaltenstherapi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ange, D./Körner, W. (Hg.) (2002): Handwörterbuch Sexueller Missbrauch. Hogref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European Union Agency For Fundamental Rights (2014): Gewalt gegen Frauen: eine EU-weite Erhebung. Ergebnisse auf einen Blick. Verfügbar unter: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hlinkClick r:id="rId1"/>
              </a:rPr>
              <a:t>http://fra.europa.eu/de/publication/2014/gewalt-frauen-erhebung-ergebnisse-auf-einen-blick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Frick-Baer, Gabriele (2013): Trauma – Am schlimmsten ist das Alleinsein danach. Neukirchen-Vluyn: Semnos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Gebhardt, Miriam (2015): Als die Soldaten kamen. Die Vergewaltigungen deutscher Frauen am Ende des Zweiten Weltkriegs. München: DVA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antke, L./Görges, H.-J. (2012): Handbuch Traumakompetenz. Basiswissen für Therapie, Beratung und Pädagogik. Paderborn: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  <a:ea typeface="Arial"/>
              </a:rPr>
              <a:t>Hantke, L., (2006): Vom Umgang mit Dissiziationen und Körpererinnerungen. Verfügbar unter 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ea typeface="Arial"/>
                <a:hlinkClick r:id="rId2"/>
              </a:rPr>
              <a:t>www.institut-berlin.de</a:t>
            </a:r>
            <a:r>
              <a:rPr b="0" lang="de-DE" sz="1100" spc="-1" strike="noStrike">
                <a:solidFill>
                  <a:srgbClr val="565656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ellmann, D. F. (2014): Repräsentativbefragung zu Viktimisierungserfahrungen in Deutschland (KFN-Forschungsbericht; Nr.: 122). Hannover: KF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erman, J. (2006): Die Narben der Gewalt. Traumatische Erfahrungen verstehen und überwinden. 3. Aufl. Junfermann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uber, M. (2009): Trauma und die Folgen. Trauma und Traumabehandlung, Teil 1. 4. Aufl.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Körner, W./Lenz, A. (Hg.) (2004): Sexueller Missbrauch: Band 1: Grundlagen und Konzepte. Hogref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ander, H./ Johr, B. (Hg.) (2008): BeFreier und Befreite. Krieg, Vergewaltigung, Kinder. 3. Aufl. Fischer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tadler, L.; Bieneck, S. &amp; Pfeiffer, C.(2012): Repräsentativbefragung Sexueller Missbrauch 2011 (KFN-Forschungsbericht; Nr.: 118). Hannover: KFN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C9DE-D593-4745-8D4D-073EE00F300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4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5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367CC-0627-40EB-A275-5410EC882BA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2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ist sexualisierte Gewalt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2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726F-3A71-426D-A35D-267608173B0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2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6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ist das sexualisierte Gewalt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as ist „Sexualisierte Gewalt“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824120"/>
            <a:ext cx="8429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universelle, allgemeingültige Definitio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Oberbegriff für eine Vielzahl sexualisierter Grenzüberschreit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waltaspekte, die ihren Ursprung nicht in der Sexualität haben, jedoch mittels sexueller Handlungen zum Ausdruck gebracht werd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schiedliche Definitionen, Bewertungen und Ebenen: Juristisch-strafrechtliche, Historische, Kulturelle, Sittenmoralische, Psychologische, u.a.m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4"/>
          <p:cNvSpPr/>
          <p:nvPr/>
        </p:nvSpPr>
        <p:spPr>
          <a:xfrm>
            <a:off x="5286240" y="0"/>
            <a:ext cx="385776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4214880" y="6572160"/>
            <a:ext cx="314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Laura Braune – Wildwasser Bielefeld e.V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3" name="Textfeld 6"/>
          <p:cNvSpPr/>
          <p:nvPr/>
        </p:nvSpPr>
        <p:spPr>
          <a:xfrm>
            <a:off x="1214280" y="6581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Franziskus 08.April 2015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4" name="Picture 10" descr="C:\Users\Wilwasser\AppData\Local\Microsoft\Windows\Temporary Internet Files\Content.IE5\PQR9V60R\wpid-Photo-19042012-1635[1].jpg"/>
          <p:cNvPicPr/>
          <p:nvPr/>
        </p:nvPicPr>
        <p:blipFill>
          <a:blip r:embed="rId2"/>
          <a:stretch/>
        </p:blipFill>
        <p:spPr>
          <a:xfrm>
            <a:off x="7072200" y="5214960"/>
            <a:ext cx="15717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B4E1-A5FB-4A5E-B321-C687A5CF2C9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 beinhaltet …</a:t>
            </a:r>
            <a:br>
              <a:rPr sz="3600"/>
            </a:b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8921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sexuelle Handlung an oder vor einem Kin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gen den Willen oder ohne wissentliche Zustimmung aufgrund der Entwicklung des Opfer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mmer überlegt, nie zufälli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ssbrauch ist immer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acht- und Autoritätsmissbrauch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antwortung liegt immer beim Erwachse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Übergriff auf die körperliche und seelische Integritä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9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0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Amann, G.; Wipplinger, R.(1998); Bange, D. (1995), Körner, W.; Lenz, A. (2004) 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7644-05C5-45E4-809E-134ED03BBBF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43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Erfahrungen im Arbeitskontext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A562-AE79-4BED-A5FE-45F372B663A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ie häufig kommt sexualisierte Gewalt vor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8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2T13:23:09Z</dcterms:modified>
  <cp:revision>110</cp:revision>
  <dc:subject/>
  <dc:title>PowerPoint-Präsentation</dc:title>
</cp:coreProperties>
</file>